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30A57-CDC2-4EBD-BDC4-F0840D060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FC804-4712-4E3F-98B5-94FE5D18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22AC8-7C13-4326-B9E2-0E538D5C2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636F2-D16D-42D6-80F9-853888081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B1EDC-564E-4D28-8F7C-109420F61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4A6908-73D0-47C3-A506-AFE271A07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2B749-E5AA-4365-9BC0-23B092929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5A9D2-7250-444B-8BA5-B702589D1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CCB48-9074-4433-B4CE-8AF84F221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E4D86-0DC8-480C-ABFE-355A7E4CC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95A03-0793-4F02-A957-0075BF7AA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5F4F-38C6-4A49-9BA3-F54B5DFA0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1DBD-C188-4774-9F50-DE7913664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0372-BA58-4DFD-BCAC-CB3A0BA30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635EAF-D294-4963-A9EF-B95C815C4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ED555-B3FC-48DC-A95D-B9131B7AF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2B10B-DE52-4815-872E-349A2B59EE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81FCC-A4B6-4617-BB7E-634C412F4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41F1C-30A8-4765-8E0E-13C369AD4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B9E9-D30C-48F9-8E98-2ABF19AE5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5982E-DAD2-46BC-AB3D-161559DD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FCA2-3960-43C4-8D92-1EFB2BD5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0625-47C9-4A93-BD04-FF42832E9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BD2B-1925-48C2-8F82-51648B6A9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C9D2-4D47-4AC0-BB10-855E4DC20B7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D91B-49BC-4EB3-AD17-10DD5D4DF2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2120"/>
            <a:ext cx="9144000" cy="35049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Trebuchet MS"/>
              </a:rPr>
              <a:t>Immigration Defines America</a:t>
            </a:r>
            <a:br>
              <a:rPr sz="4800"/>
            </a:br>
            <a:br>
              <a:rPr sz="4800"/>
            </a:br>
            <a:r>
              <a:rPr b="1" i="1" lang="en-US" sz="4400" spc="-1" strike="noStrike">
                <a:solidFill>
                  <a:srgbClr val="b9efee"/>
                </a:solidFill>
                <a:latin typeface="Trebuchet MS"/>
              </a:rPr>
              <a:t>A Project-Based Learning Showcase Presentation</a:t>
            </a:r>
            <a:br>
              <a:rPr sz="4800"/>
            </a:br>
            <a:endParaRPr b="1" lang="en-US" sz="4400" spc="-1" strike="noStrike">
              <a:solidFill>
                <a:srgbClr val="b9efee"/>
              </a:solidFill>
              <a:latin typeface="Garamond"/>
            </a:endParaRPr>
          </a:p>
        </p:txBody>
      </p:sp>
      <p:sp>
        <p:nvSpPr>
          <p:cNvPr id="115" name="PlaceHolder 2"/>
          <p:cNvSpPr>
            <a:spLocks noGrp="1"/>
          </p:cNvSpPr>
          <p:nvPr>
            <p:ph type="subTitle"/>
          </p:nvPr>
        </p:nvSpPr>
        <p:spPr>
          <a:xfrm>
            <a:off x="533160" y="5105160"/>
            <a:ext cx="8305560" cy="15238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Juan Tejeda, Kerry Burkhard, Yazmin Salcedo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alvatore Cordo, Lupe Padron, Mike Nisevich</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rebuchet MS"/>
              </a:rPr>
              <a:t>June 7, 2008</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36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echnology</a:t>
            </a:r>
            <a:endParaRPr b="1" lang="en-US" sz="4400" spc="-1" strike="noStrike">
              <a:solidFill>
                <a:srgbClr val="b9efee"/>
              </a:solidFill>
              <a:latin typeface="Garamond"/>
            </a:endParaRPr>
          </a:p>
        </p:txBody>
      </p:sp>
      <p:sp>
        <p:nvSpPr>
          <p:cNvPr id="135" name="PlaceHolder 2"/>
          <p:cNvSpPr>
            <a:spLocks noGrp="1"/>
          </p:cNvSpPr>
          <p:nvPr>
            <p:ph/>
          </p:nvPr>
        </p:nvSpPr>
        <p:spPr>
          <a:xfrm>
            <a:off x="0" y="762120"/>
            <a:ext cx="9144000" cy="533376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vestigation</a:t>
            </a:r>
            <a:endParaRPr b="0" lang="en-US" sz="32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V, DVR &amp; VCR to watch films &amp; documentarie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adio, cassette &amp; CDs to listen to recorded media</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C for research, for audio or to watch videos</a:t>
            </a:r>
            <a:endParaRPr b="0" lang="en-US" sz="2800" spc="-1" strike="noStrike">
              <a:solidFill>
                <a:srgbClr val="ffffff"/>
              </a:solidFill>
              <a:latin typeface="Garamond"/>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splay</a:t>
            </a:r>
            <a:endParaRPr b="0" lang="en-US" sz="32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ransparency overhead projectors to display material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paque projector to displays photos</a:t>
            </a:r>
            <a:endParaRPr b="0" lang="en-US" sz="2800" spc="-1" strike="noStrike">
              <a:solidFill>
                <a:srgbClr val="ffffff"/>
              </a:solidFill>
              <a:latin typeface="Garamond"/>
            </a:endParaRPr>
          </a:p>
          <a:p>
            <a:pPr lvl="1" marL="727920" indent="-280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eb cams, cell phones et al</a:t>
            </a:r>
            <a:endParaRPr b="0" lang="en-US" sz="2800" spc="-1" strike="noStrike">
              <a:solidFill>
                <a:srgbClr val="ffffff"/>
              </a:solidFill>
              <a:latin typeface="Garamond"/>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Ongoing Self Assessment</a:t>
            </a:r>
            <a:endParaRPr b="1" lang="en-US" sz="4000" spc="-1" strike="noStrike">
              <a:solidFill>
                <a:srgbClr val="b9efee"/>
              </a:solidFill>
              <a:latin typeface="Garamond"/>
            </a:endParaRPr>
          </a:p>
        </p:txBody>
      </p:sp>
      <p:graphicFrame>
        <p:nvGraphicFramePr>
          <p:cNvPr id="137" name=""/>
          <p:cNvGraphicFramePr/>
          <p:nvPr/>
        </p:nvGraphicFramePr>
        <p:xfrm>
          <a:off x="0" y="439560"/>
          <a:ext cx="9144000" cy="6353280"/>
        </p:xfrm>
        <a:graphic>
          <a:graphicData uri="http://schemas.openxmlformats.org/drawingml/2006/table">
            <a:tbl>
              <a:tblPr/>
              <a:tblGrid>
                <a:gridCol w="1295280"/>
                <a:gridCol w="7848720"/>
              </a:tblGrid>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atego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Responsibilit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ooperation</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4: Synergize. I thought win-win (showing high courage and high consideration), thus thinking “we” not “m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5: I listened to understand, not to repl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exhibited Habit #6: I believed in third alternativ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was present and on time for every group meeting or practic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Background Research</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sked my parents and other relatives about our family histor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used a variety of objective resources: textbooks, internet, videos, etc.</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correctly cited all information and sourc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used enough materials and resources to make my project’s topic better, more understandable and complete.</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Gathering of family history</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brought in photos or scanned copies to shar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gathered other paraphernalia necessary to discuss immigration and tolerance issu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Carniv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brought family recipes from my homeland, dress, and other props that represent my homeland.</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participated with my group, fielding questions posed during the carnival</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Relating topic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m able to discuss immigration trends from a historic perspective</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m able to correlate recent immigration tensions to opinions and conditions of today and other times</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attempt to understand and admire cultural differences of students and faculty to look at other students and faculty</a:t>
                      </a:r>
                      <a:endParaRPr b="0" lang="en-US" sz="1400" spc="-1" strike="noStrike">
                        <a:solidFill>
                          <a:srgbClr val="ffffff"/>
                        </a:solidFill>
                        <a:latin typeface="Arial"/>
                      </a:endParaRPr>
                    </a:p>
                    <a:p>
                      <a:pPr marL="343080" indent="-34308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Times New Roman"/>
                        </a:rPr>
                        <a:t>I can articulate a reasonable argument to counter the xenophobic trends in the U.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639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Asssessment:  Peers</a:t>
            </a:r>
            <a:endParaRPr b="1" lang="en-US" sz="4000" spc="-1" strike="noStrike">
              <a:solidFill>
                <a:srgbClr val="b9efee"/>
              </a:solidFill>
              <a:latin typeface="Garamond"/>
            </a:endParaRPr>
          </a:p>
        </p:txBody>
      </p:sp>
      <p:graphicFrame>
        <p:nvGraphicFramePr>
          <p:cNvPr id="139" name=""/>
          <p:cNvGraphicFramePr/>
          <p:nvPr/>
        </p:nvGraphicFramePr>
        <p:xfrm>
          <a:off x="0" y="685800"/>
          <a:ext cx="9144000" cy="6172200"/>
        </p:xfrm>
        <a:graphic>
          <a:graphicData uri="http://schemas.openxmlformats.org/drawingml/2006/table">
            <a:tbl>
              <a:tblPr/>
              <a:tblGrid>
                <a:gridCol w="1295280"/>
                <a:gridCol w="1524240"/>
                <a:gridCol w="1752480"/>
                <a:gridCol w="1676520"/>
                <a:gridCol w="2286000"/>
                <a:gridCol w="609480"/>
              </a:tblGrid>
              <a:tr h="29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Cooper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 with the group, and showed little effor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ed with the group, but wasn't a key contributor.</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worked well with the group, and was prompt for meeting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emonstrated leadership within the group, and was prompt for all meeting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06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Background Research</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little research and didn't cite i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but cited it incorrectl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and cited it correctl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research, citied it correctly, and helped make project more understandable.</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6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Gathering of Family Histor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provide much family histor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family history, but it was unorganize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a family history that was clear and organized.</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provided a clearly organized family history, and provided pictures of the family for display.</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389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Multicultural Day Carnival</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bring a traditional dish or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in traditional dish, but lacked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traditional dish and valuable additional informat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brought in tradtional dish, valuable additional information, and dressed in traditional garb for the projec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06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Relating Topic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didn't grasp concept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made effort to understand concepts, but still didn't grasp concept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understands concepts of the projec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Student understands concepts of the project, and is able to discuss the concepts with other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89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Tota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ea typeface="Times New Roman"/>
                        </a:rPr>
                        <a:t>____</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360"/>
            <a:ext cx="8001000" cy="639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Asssessment: Teacher</a:t>
            </a:r>
            <a:endParaRPr b="1" lang="en-US" sz="4000" spc="-1" strike="noStrike">
              <a:solidFill>
                <a:srgbClr val="b9efee"/>
              </a:solidFill>
              <a:latin typeface="Garamond"/>
            </a:endParaRPr>
          </a:p>
        </p:txBody>
      </p:sp>
      <p:graphicFrame>
        <p:nvGraphicFramePr>
          <p:cNvPr id="141" name=""/>
          <p:cNvGraphicFramePr/>
          <p:nvPr/>
        </p:nvGraphicFramePr>
        <p:xfrm>
          <a:off x="76320" y="609480"/>
          <a:ext cx="9067680" cy="6429600"/>
        </p:xfrm>
        <a:graphic>
          <a:graphicData uri="http://schemas.openxmlformats.org/drawingml/2006/table">
            <a:tbl>
              <a:tblPr/>
              <a:tblGrid>
                <a:gridCol w="1447560"/>
                <a:gridCol w="1447920"/>
                <a:gridCol w="1447920"/>
                <a:gridCol w="1676160"/>
                <a:gridCol w="2102040"/>
                <a:gridCol w="946080"/>
              </a:tblGrid>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1</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2</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3</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4</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r>
              <a:tr h="1265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pproach To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Unable to generate any strategies to solve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Begins, but fails to complete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Begins in a reasonable way, but doesn't finish or leaves out important parts of the solution.</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lear organized method. The method and equations can stand alon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r h="109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Demonstrate</a:t>
                      </a:r>
                      <a:endParaRPr b="0" lang="en-US" sz="11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Knowledg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Response shows a complete lack of understanding for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Response shows some understanding of the proble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hows substantial understanding of the problem, ideas, and process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hows complete understanding of the questions, ideas, and process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6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no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some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most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Includes all supporting detail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ompletion of Required Section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More than three required sections are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2 or 3 required sections are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One required section is missing.</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ll required sections are complet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Preparation (Presentation) Obvious that:</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No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ome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Above average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Great deal of preparation was used.</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30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eamwork</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Little, or no cooperation between team member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One member solely represents the team.</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everal team members participat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eamwork is evident throughout debate with full participation of all member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63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Understanding Of Purpose Demonstrates</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No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Some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General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Clear understanding of purpose.</a:t>
                      </a:r>
                      <a:endParaRPr b="0" lang="en-US" sz="11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 </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Total:-----</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rebuchet MS"/>
                          <a:ea typeface="Times New Roman"/>
                        </a:rPr>
                        <a:t>____</a:t>
                      </a:r>
                      <a:endParaRPr b="0" lang="en-US" sz="11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Culminating Activity</a:t>
            </a:r>
            <a:endParaRPr b="1" lang="en-US" sz="4000" spc="-1" strike="noStrike">
              <a:solidFill>
                <a:srgbClr val="b9efee"/>
              </a:solidFill>
              <a:latin typeface="Garamond"/>
            </a:endParaRPr>
          </a:p>
        </p:txBody>
      </p:sp>
      <p:sp>
        <p:nvSpPr>
          <p:cNvPr id="14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splays of:</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ortant contributions made by first-generation immigrants by ethnicity (e.g., Einstein, von Braun, etc.)</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ood and cultural contributions of immigrants by ethnicity adopted by American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ral histories, both from family members and unrelated interviewed immigrants</a:t>
            </a:r>
            <a:endParaRPr b="0" lang="en-US" sz="2800" spc="-1" strike="noStrike">
              <a:solidFill>
                <a:srgbClr val="ffffff"/>
              </a:solidFill>
              <a:latin typeface="Garamond"/>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erspectives of the US from those immigrants</a:t>
            </a:r>
            <a:endParaRPr b="0" lang="en-US" sz="24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amily histories and trees of student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thnographic maps of student body’s famil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5634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Closure</a:t>
            </a:r>
            <a:endParaRPr b="1" lang="en-US" sz="4000" spc="-1" strike="noStrike">
              <a:solidFill>
                <a:srgbClr val="b9efee"/>
              </a:solidFill>
              <a:latin typeface="Garamond"/>
            </a:endParaRPr>
          </a:p>
        </p:txBody>
      </p:sp>
      <p:sp>
        <p:nvSpPr>
          <p:cNvPr id="145" name="PlaceHolder 2"/>
          <p:cNvSpPr>
            <a:spLocks noGrp="1"/>
          </p:cNvSpPr>
          <p:nvPr>
            <p:ph/>
          </p:nvPr>
        </p:nvSpPr>
        <p:spPr>
          <a:xfrm>
            <a:off x="0" y="76212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rom surveyed students, develop a map showing ethnic ancestrie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ize the student population</a:t>
            </a:r>
            <a:endParaRPr b="0" lang="en-US" sz="3200" spc="-1" strike="noStrike">
              <a:solidFill>
                <a:srgbClr val="ffffff"/>
              </a:solidFill>
              <a:latin typeface="Garamond"/>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continent, by country</a:t>
            </a:r>
            <a:endParaRPr b="0" lang="en-US" sz="2800" spc="-1" strike="noStrike">
              <a:solidFill>
                <a:srgbClr val="ffffff"/>
              </a:solidFill>
              <a:latin typeface="Garamond"/>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dates of immigration</a:t>
            </a:r>
            <a:endParaRPr b="0" lang="en-US" sz="2800" spc="-1" strike="noStrike">
              <a:solidFill>
                <a:srgbClr val="ffffff"/>
              </a:solidFill>
              <a:latin typeface="Garamond"/>
            </a:endParaRPr>
          </a:p>
          <a:p>
            <a:pPr marL="343080" indent="-343080">
              <a:lnSpc>
                <a:spcPct val="90000"/>
              </a:lnSpc>
              <a:spcBef>
                <a:spcPts val="799"/>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trast with ethnographic overview of the US showing similarities and contrasts</a:t>
            </a:r>
            <a:endParaRPr b="0" lang="en-US" sz="32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CELEBRATE THE DIVERSITY</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THAT IS US &amp; </a:t>
            </a:r>
            <a:endParaRPr b="0" lang="en-US" sz="4400" spc="-1" strike="noStrike">
              <a:solidFill>
                <a:srgbClr val="ffffff"/>
              </a:solidFill>
              <a:latin typeface="Garamond"/>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THAT IS THE U.S.  !!!</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Background</a:t>
            </a:r>
            <a:endParaRPr b="1" lang="en-US" sz="4000" spc="-1" strike="noStrike">
              <a:solidFill>
                <a:srgbClr val="b9efee"/>
              </a:solidFill>
              <a:latin typeface="Garamond"/>
            </a:endParaRPr>
          </a:p>
        </p:txBody>
      </p:sp>
      <p:sp>
        <p:nvSpPr>
          <p:cNvPr id="117" name="PlaceHolder 2"/>
          <p:cNvSpPr>
            <a:spLocks noGrp="1"/>
          </p:cNvSpPr>
          <p:nvPr>
            <p:ph/>
          </p:nvPr>
        </p:nvSpPr>
        <p:spPr>
          <a:xfrm>
            <a:off x="0" y="762120"/>
            <a:ext cx="9144000" cy="487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rget:  7</a:t>
            </a:r>
            <a:r>
              <a:rPr b="0" lang="en-US" sz="2800" spc="-1" strike="noStrike" baseline="30000">
                <a:solidFill>
                  <a:srgbClr val="ffffff"/>
                </a:solidFill>
                <a:latin typeface="Trebuchet MS"/>
              </a:rPr>
              <a:t>th</a:t>
            </a:r>
            <a:r>
              <a:rPr b="0" lang="en-US" sz="2800" spc="-1" strike="noStrike">
                <a:solidFill>
                  <a:srgbClr val="ffffff"/>
                </a:solidFill>
                <a:latin typeface="Trebuchet MS"/>
              </a:rPr>
              <a:t> Grade Social Studies Studen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y the Topic:</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join the high immigrant population of most of our school districts with:</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mergent identity issues for young adolescents, and</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intensifying national debate with the</a:t>
            </a:r>
            <a:endParaRPr b="0" lang="en-US" sz="2800" spc="-1" strike="noStrike">
              <a:solidFill>
                <a:srgbClr val="ffffff"/>
              </a:solidFill>
              <a:latin typeface="Garamond"/>
            </a:endParaRPr>
          </a:p>
          <a:p>
            <a:pPr marL="343080" indent="-343080">
              <a:lnSpc>
                <a:spcPct val="8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surgence of Nativism</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help students better understand, and t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acilitate their own acculturation &amp; identify formation processes and/or tolerance in a country wholly founded by immigrants</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8" name=""/>
          <p:cNvSpPr/>
          <p:nvPr/>
        </p:nvSpPr>
        <p:spPr>
          <a:xfrm>
            <a:off x="0" y="5334120"/>
            <a:ext cx="9144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rebuchet MS"/>
              </a:rPr>
              <a:t>All Americans are Immigrants …</a:t>
            </a:r>
            <a:endParaRPr b="0" lang="en-US" sz="3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00"/>
                </a:solidFill>
                <a:latin typeface="Trebuchet MS"/>
              </a:rPr>
              <a:t>It’s Simply a Question of When they Arrive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opic Selection Criteria</a:t>
            </a:r>
            <a:r>
              <a:rPr b="1" lang="en-US" sz="4400" spc="-1" strike="noStrike">
                <a:solidFill>
                  <a:srgbClr val="b9efee"/>
                </a:solidFill>
                <a:latin typeface="Garamond"/>
              </a:rPr>
              <a:t> </a:t>
            </a:r>
            <a:endParaRPr b="1" lang="en-US" sz="4400" spc="-1" strike="noStrike">
              <a:solidFill>
                <a:srgbClr val="b9efee"/>
              </a:solidFill>
              <a:latin typeface="Garamond"/>
            </a:endParaRPr>
          </a:p>
        </p:txBody>
      </p:sp>
      <p:sp>
        <p:nvSpPr>
          <p:cNvPr id="120"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 Real World Issue?</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elerating In-Migration</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ativistic surge</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storic context of immigration &amp; how it can be used to promote inclusive understanding</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eresting to Students?</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2% of US population are immigrant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2% of US children are children of immigrant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dily relatable issues of Identity and Acculturation</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ase of access to first-hand information?</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and friends </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rary and Interne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opic Selection Criteria</a:t>
            </a:r>
            <a:endParaRPr b="1" lang="en-US" sz="4400" spc="-1" strike="noStrike">
              <a:solidFill>
                <a:srgbClr val="b9efee"/>
              </a:solidFill>
              <a:latin typeface="Garamond"/>
            </a:endParaRPr>
          </a:p>
        </p:txBody>
      </p:sp>
      <p:sp>
        <p:nvSpPr>
          <p:cNvPr id="122" name="PlaceHolder 2"/>
          <p:cNvSpPr>
            <a:spLocks noGrp="1"/>
          </p:cNvSpPr>
          <p:nvPr>
            <p:ph/>
          </p:nvPr>
        </p:nvSpPr>
        <p:spPr>
          <a:xfrm>
            <a:off x="151920" y="761760"/>
            <a:ext cx="8991720" cy="6095880"/>
          </a:xfrm>
          <a:prstGeom prst="rect">
            <a:avLst/>
          </a:prstGeom>
          <a:noFill/>
          <a:ln w="0">
            <a:noFill/>
          </a:ln>
        </p:spPr>
        <p:txBody>
          <a:bodyPr lIns="90000" rIns="90000" tIns="46800" bIns="46800" anchor="t">
            <a:normAutofit/>
          </a:bodyPr>
          <a:p>
            <a:pPr marL="609480" indent="-609480">
              <a:lnSpc>
                <a:spcPct val="100000"/>
              </a:lnSpc>
              <a:spcBef>
                <a:spcPts val="799"/>
              </a:spcBef>
              <a:buClr>
                <a:srgbClr val="00ff99"/>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o can tell about their own experiences with the topic?</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rents and Relatives</a:t>
            </a:r>
            <a:endParaRPr b="0" lang="en-US" sz="24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ildren themselves</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here many questions the children will want to  ask?</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ger to discuss viz., aforementioned reasons</a:t>
            </a:r>
            <a:endParaRPr b="0" lang="en-US" sz="2400" spc="-1" strike="noStrike">
              <a:solidFill>
                <a:srgbClr val="ffffff"/>
              </a:solidFill>
              <a:latin typeface="Garamond"/>
            </a:endParaRPr>
          </a:p>
          <a:p>
            <a:pPr marL="609480" indent="-609480">
              <a:lnSpc>
                <a:spcPct val="100000"/>
              </a:lnSpc>
              <a:spcBef>
                <a:spcPts val="799"/>
              </a:spcBef>
              <a:buClr>
                <a:srgbClr val="00ff99"/>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ill it help them understand one another?</a:t>
            </a:r>
            <a:endParaRPr b="0" lang="en-US" sz="3200" spc="-1" strike="noStrike">
              <a:solidFill>
                <a:srgbClr val="ffffff"/>
              </a:solidFill>
              <a:latin typeface="Garamond"/>
            </a:endParaRPr>
          </a:p>
          <a:p>
            <a:pPr lvl="1" marL="990720" indent="-533520">
              <a:lnSpc>
                <a:spcPct val="10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BL Goal is to devise ways to facilitate understanding and broaden tolerance for the many people that comprise America, and to </a:t>
            </a:r>
            <a:endParaRPr b="0" lang="en-US" sz="2400" spc="-1" strike="noStrike">
              <a:solidFill>
                <a:srgbClr val="ffffff"/>
              </a:solidFill>
              <a:latin typeface="Garamond"/>
            </a:endParaRPr>
          </a:p>
        </p:txBody>
      </p:sp>
      <p:sp>
        <p:nvSpPr>
          <p:cNvPr id="123" name=""/>
          <p:cNvSpPr/>
          <p:nvPr/>
        </p:nvSpPr>
        <p:spPr>
          <a:xfrm>
            <a:off x="0" y="60199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rebuchet MS"/>
              </a:rPr>
              <a:t>Celebrate Our Diversity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5" name=""/>
          <p:cNvGraphicFramePr/>
          <p:nvPr/>
        </p:nvGraphicFramePr>
        <p:xfrm>
          <a:off x="0" y="533520"/>
          <a:ext cx="9144000" cy="6316560"/>
        </p:xfrm>
        <a:graphic>
          <a:graphicData uri="http://schemas.openxmlformats.org/drawingml/2006/table">
            <a:tbl>
              <a:tblPr/>
              <a:tblGrid>
                <a:gridCol w="603360"/>
                <a:gridCol w="2673360"/>
                <a:gridCol w="3201840"/>
                <a:gridCol w="2665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Beginn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Concluding</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rowSpan="3">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Times New Roman"/>
                        </a:rPr>
                        <a:t>Discussion</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iscuss their own cultural ident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groups currently in America</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Instigate discussion of broad, inclusive theme “All Americans are Immigran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Prepare questions for interview – definition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Students play oral history tapes of interviews with parents and relativ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08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Stimulate research into other places largely settled by immigrants (i.e., Australia, Central &amp; South America, Iceland, Pacific Island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America has the most ethnically diverse population of any nation on earth</a:t>
                      </a:r>
                      <a:endParaRPr b="0" lang="en-US" sz="1800" spc="-1" strike="noStrike">
                        <a:solidFill>
                          <a:srgbClr val="ffffff"/>
                        </a:solidFill>
                        <a:latin typeface="Arial"/>
                      </a:endParaRPr>
                    </a:p>
                    <a:p>
                      <a:pPr>
                        <a:lnSpc>
                          <a:spcPct val="100000"/>
                        </a:lnSpc>
                        <a:tabLst>
                          <a:tab algn="l" pos="0"/>
                          <a:tab algn="l" pos="22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22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history of immigration waves to America – from the 3 waves of “Native Americans” thru the Colonial Period, Westward expansion, the waves of 1848, 1860, 1910 and the present time – from where they came</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port out on their findings</a:t>
                      </a:r>
                      <a:endParaRPr b="0" lang="en-US" sz="1800" spc="-1" strike="noStrike">
                        <a:solidFill>
                          <a:srgbClr val="ffffff"/>
                        </a:solidFill>
                        <a:latin typeface="Arial"/>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 </a:t>
                      </a:r>
                      <a:r>
                        <a:rPr b="1" lang="en-US" sz="1800" spc="-1" strike="noStrike">
                          <a:solidFill>
                            <a:srgbClr val="ffffff"/>
                          </a:solidFill>
                          <a:latin typeface="Trebuchet MS"/>
                          <a:ea typeface="Times New Roman"/>
                        </a:rPr>
                        <a:t>Display maps showing in-migrations and the changing sources of the immigrants thru time</a:t>
                      </a:r>
                      <a:endParaRPr b="0" lang="en-US" sz="1800" spc="-1" strike="noStrike">
                        <a:solidFill>
                          <a:srgbClr val="ffffff"/>
                        </a:solidFill>
                        <a:latin typeface="Arial"/>
                      </a:endParaRPr>
                    </a:p>
                    <a:p>
                      <a:pPr>
                        <a:lnSpc>
                          <a:spcPct val="100000"/>
                        </a:lnSpc>
                        <a:tabLst>
                          <a:tab algn="l" pos="0"/>
                          <a:tab algn="l" pos="18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18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 ethnographic maps of their student bod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7" name=""/>
          <p:cNvGraphicFramePr/>
          <p:nvPr/>
        </p:nvGraphicFramePr>
        <p:xfrm>
          <a:off x="0" y="914400"/>
          <a:ext cx="9144000" cy="5591160"/>
        </p:xfrm>
        <a:graphic>
          <a:graphicData uri="http://schemas.openxmlformats.org/drawingml/2006/table">
            <a:tbl>
              <a:tblPr/>
              <a:tblGrid>
                <a:gridCol w="603360"/>
                <a:gridCol w="3209760"/>
                <a:gridCol w="2665440"/>
                <a:gridCol w="26654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Beginn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Develop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Conclud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rowSpan="3">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Times New Roman"/>
                        </a:rPr>
                        <a:t>Field Work</a:t>
                      </a:r>
                      <a:endParaRPr b="0" lang="en-US" sz="2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oral history tapes of interviews with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cuss the history of immigration to the U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Visit Ellis Isl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play material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Gather family and historic Phot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albums and posters of photo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oral history tapes of interviews with immigrants in their tow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8040">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ea typeface="Times New Roman"/>
                        </a:rPr>
                        <a:t>Representatio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iscuss and identify potential immigrant interviewees in town with interesting stories to t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Students gather photos and/or diaries of ancestor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immigrants in their tow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common storylin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evelop family photo albums and/or diari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video/audio collages of the interviews and them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Display photo albums/diar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29" name=""/>
          <p:cNvGraphicFramePr/>
          <p:nvPr/>
        </p:nvGraphicFramePr>
        <p:xfrm>
          <a:off x="0" y="533520"/>
          <a:ext cx="9144000" cy="6708600"/>
        </p:xfrm>
        <a:graphic>
          <a:graphicData uri="http://schemas.openxmlformats.org/drawingml/2006/table">
            <a:tbl>
              <a:tblPr/>
              <a:tblGrid>
                <a:gridCol w="517680"/>
                <a:gridCol w="2590560"/>
                <a:gridCol w="3041640"/>
                <a:gridCol w="299412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Beginn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Develop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Times New Roman"/>
                        </a:rPr>
                        <a:t>Concluding</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rowSpan="3">
                  <a:txBody>
                    <a:bodyPr lIns="90000" rIns="90000" tIns="46800" bIns="46800" anchor="t" vert="eaVe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Investigatio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Explore Nationality v. Ethnicit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e.g., A child born in the US w/ East Indian parents has a American nationality, but is of Indian ethnicity</a:t>
                      </a:r>
                      <a:br>
                        <a:rPr sz="1800"/>
                      </a:br>
                      <a:br>
                        <a:rPr sz="1800"/>
                      </a:b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Have students map their respective nationalities and ethnicitie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Develop questions that explore the reasons why immigrants settle in certain locations (antecedents, geography, economy, etc.)</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People have migrated all over the world, throughout humanity’s deepest history</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Times New Roman"/>
                        </a:rPr>
                        <a:t>Research how DNA analysis has helped us better understand our individual genetic histories from the places our ancestors lived that are represented in our genes (e.g., National Geographic's project, The Seven Daughters of Eve, Cavalli Sforza, et 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Trebuchet MS"/>
              </a:rPr>
              <a:t>Five Features, Three Phases</a:t>
            </a:r>
            <a:endParaRPr b="1" lang="en-US" sz="4000" spc="-1" strike="noStrike">
              <a:solidFill>
                <a:srgbClr val="b9efee"/>
              </a:solidFill>
              <a:latin typeface="Garamond"/>
            </a:endParaRPr>
          </a:p>
        </p:txBody>
      </p:sp>
      <p:graphicFrame>
        <p:nvGraphicFramePr>
          <p:cNvPr id="131" name=""/>
          <p:cNvGraphicFramePr/>
          <p:nvPr/>
        </p:nvGraphicFramePr>
        <p:xfrm>
          <a:off x="0" y="685800"/>
          <a:ext cx="9144000" cy="6171840"/>
        </p:xfrm>
        <a:graphic>
          <a:graphicData uri="http://schemas.openxmlformats.org/drawingml/2006/table">
            <a:tbl>
              <a:tblPr/>
              <a:tblGrid>
                <a:gridCol w="474840"/>
                <a:gridCol w="1582560"/>
                <a:gridCol w="3505320"/>
                <a:gridCol w="3581280"/>
              </a:tblGrid>
              <a:tr h="825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Beginn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Develop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ea typeface="Times New Roman"/>
                        </a:rPr>
                        <a:t>Concluding</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0920">
                <a:tc rowSpan="2">
                  <a: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Times New Roman"/>
                        </a:rPr>
                        <a:t>Displa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Interview relativ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Develop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Play tape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35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Family histories and tre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Family Tre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Color Coded ethnographic maps </a:t>
                      </a:r>
                      <a:r>
                        <a:rPr b="1" i="1" lang="en-US" sz="1600" spc="-1" strike="noStrike">
                          <a:solidFill>
                            <a:srgbClr val="ffffff"/>
                          </a:solidFill>
                          <a:latin typeface="Trebuchet MS"/>
                          <a:ea typeface="Times New Roman"/>
                        </a:rPr>
                        <a:t>(see Interactive Activity under Presentat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Examine the history of how immigrants were ‘welcomed’ </a:t>
                      </a: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The Nativist tradition and assimilation</a:t>
                      </a: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Research how America has adopted the ‘ethnic’ foods  and cultural elements of its newcomers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 </a:t>
                      </a:r>
                      <a:r>
                        <a:rPr b="1" lang="en-US" sz="1600" spc="-1" strike="noStrike">
                          <a:solidFill>
                            <a:srgbClr val="ffffff"/>
                          </a:solidFill>
                          <a:latin typeface="Trebuchet MS"/>
                          <a:ea typeface="Times New Roman"/>
                        </a:rPr>
                        <a:t>Display ethnographic maps of America today - where we came from (e.g., % England, Ireland, France, Spain, Italy, China, India, Mexico,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Excerpt clips from films dealing with the immigrant experience, e.g. (The Perez Family, Gangs of New York, Far and Away,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ea typeface="Times New Roman"/>
                        </a:rPr>
                        <a:t>List foods (w/ pictures?) we take as everyday today, but have immigrant roots (e.g., bagels, tacos, pizza, hot dogs, fried chicken, etc.)</a:t>
                      </a:r>
                      <a:br>
                        <a:rPr sz="1600"/>
                      </a:br>
                      <a:r>
                        <a:rPr b="1" lang="en-US" sz="1600" spc="-1" strike="noStrike">
                          <a:solidFill>
                            <a:srgbClr val="ffffff"/>
                          </a:solidFill>
                          <a:latin typeface="Trebuchet MS"/>
                        </a:rPr>
                        <a:t> </a:t>
                      </a:r>
                      <a:endParaRPr b="0" lang="en-US" sz="1600" spc="-1" strike="noStrike">
                        <a:solidFill>
                          <a:srgbClr val="ffffff"/>
                        </a:solidFill>
                        <a:latin typeface="Arial"/>
                      </a:endParaRPr>
                    </a:p>
                    <a:p>
                      <a:pPr>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rebuchet MS"/>
                          <a:ea typeface="Times New Roman"/>
                        </a:rPr>
                        <a:t>Celebrate our diversity!!!</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0"/>
            <a:ext cx="8229600" cy="792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Trebuchet MS"/>
              </a:rPr>
              <a:t>Technology</a:t>
            </a:r>
            <a:endParaRPr b="1" lang="en-US" sz="4400" spc="-1" strike="noStrike">
              <a:solidFill>
                <a:srgbClr val="b9efee"/>
              </a:solidFill>
              <a:latin typeface="Garamond"/>
            </a:endParaRPr>
          </a:p>
        </p:txBody>
      </p:sp>
      <p:sp>
        <p:nvSpPr>
          <p:cNvPr id="133"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ed extensively in each feature &amp; phase of the PBL</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scussion</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elephone to contact relatives &amp; friend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Wiki to collaborate w/ group members</a:t>
            </a:r>
            <a:endParaRPr b="0" lang="en-US" sz="24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ield Work</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Tape recorders, MP3s, PCs w/ mic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Video/web cams &amp; cell phones</a:t>
            </a:r>
            <a:endParaRPr b="0" lang="en-US" sz="2400" spc="-1" strike="noStrike">
              <a:solidFill>
                <a:srgbClr val="ffffff"/>
              </a:solidFill>
              <a:latin typeface="Garamond"/>
            </a:endParaRPr>
          </a:p>
          <a:p>
            <a:pPr marL="329040" indent="-329040">
              <a:lnSpc>
                <a:spcPct val="100000"/>
              </a:lnSpc>
              <a:spcBef>
                <a:spcPts val="700"/>
              </a:spcBef>
              <a:buClr>
                <a:srgbClr val="00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presentation</a:t>
            </a:r>
            <a:endParaRPr b="0" lang="en-US" sz="28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C w/ photo editing software to compile albums &amp; collage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ters to produce hard copies for displays</a:t>
            </a:r>
            <a:endParaRPr b="0" lang="en-US" sz="2400" spc="-1" strike="noStrike">
              <a:solidFill>
                <a:srgbClr val="ffffff"/>
              </a:solidFill>
              <a:latin typeface="Garamond"/>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DVRs/VCRs to capture clips from films &amp; documentaries</a:t>
            </a:r>
            <a:endParaRPr b="0" lang="en-US" sz="2400" spc="-1" strike="noStrike">
              <a:solidFill>
                <a:srgbClr val="ffffff"/>
              </a:solidFill>
              <a:latin typeface="Garamond"/>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22:08:28Z</dcterms:created>
  <dc:creator>Sal</dc:creator>
  <dc:description/>
  <dc:language>en-US</dc:language>
  <cp:lastModifiedBy>Sal</cp:lastModifiedBy>
  <dcterms:modified xsi:type="dcterms:W3CDTF">2008-06-06T20:36:50Z</dcterms:modified>
  <cp:revision>9</cp:revision>
  <dc:subject/>
  <dc:title>Showcase Presentation Immigration …</dc:title>
</cp:coreProperties>
</file>